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102-0229-4490-A5DB-D0C1FD77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C46-9EE5-4F3B-9118-5FAE0F93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626-376C-4826-AC73-E871B66F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2C2-58B3-4823-9403-D12842F5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9B33-70A3-4A1A-B16C-6246B9F5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874E-5E00-44D1-A00F-E353176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0F45-1603-4AB0-AC94-A824073E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3DAB-C2F8-4A9D-BB97-0A268EA9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4C8F-01F5-43CD-90E4-498A02D8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81CB-9572-47C5-8545-2C33A11D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4C77-B45A-4099-996D-7D463FF4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1B4-185A-4313-983E-CAF88F06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7FC7-E9AA-45EC-86D7-8EC2392A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F4B2-56A5-47AC-A6CF-CCBD57C9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6B9B-7E10-47C0-BD5F-1ADE4D2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D271-AF6D-45AD-97D9-5DE1343E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1789-2ACB-4B99-9474-57B58890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8D6-DD1C-476A-B0D5-C14D6AB7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B21-3695-4134-B2DD-480DD81A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3E8-4874-4407-A805-888464B0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927-922C-4182-82E0-0544CD60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406-939E-4F30-B7BA-F7B5FCFF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9F9-C63B-4FAA-BC0B-9A0EFB27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388-B9A8-432E-AFE0-69D510B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7332-3AD6-47A2-99B7-5D6E51ABD4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1645-C261-4BCD-BC8C-5AAC8919E8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407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IPv4/IPv6 BGP Workshop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cNOG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va, Fij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th June - 2nd July 201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House Ru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fu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k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kype, IM, Facebook, Twitter or other social med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bile phones OFF or on SIL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if you must take calls, please do so OUTSIDE the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lease be back on time after brea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BGP Worksho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eting your Instructo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hilip Smi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nny Mart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Tues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Introductions, 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9:00  Presen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et Introduction”, “Routing Basic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roduction to OSPF”, “OSPF for ISP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Lab Module 1 – Basic OSPF &amp; iBG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6:0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30 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s for tea/coffee at 10:00 and 15: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Wednes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Presen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roduction to IPv6”, “IPv6 Standards and Protocol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:30  Lab Module 1 (finish IPv4 iBG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1:0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v6 Addressing &amp; Routing Protocol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Lab Module 1 – IPv6 OSPF and iBG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6:00  Presen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PF &amp; BGP for IPv6”, “BGP Scaling Technique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30 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s for tea/coffee at 10:00 and 15: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Thurs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-byte ASN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9:30  Lab Module 3 – BGP Route Refl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IPv4 and IPv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1:0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GP Attributes and Policy Contro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Lab Module 6 – iBGP and eBG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IPv4 and IPv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30 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Fri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GP Best Practice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9:30  Lab Module 6 (continu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GP Multihoming – Part 1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6:00  Lab Module 7 – IPv6 Route Filt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30 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s for tea/coffee at 10:00 and 15: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Agenda – Saturda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8:3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v6 Deployment Case Study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:30  Lab Module 7 (co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:30  Lab Module 7 (co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5:00 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GP Multihoming – Part 2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6:30  Extra Top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ing Dynamips, Out of band management,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:00  End of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break for tea/coffee at 10:00 and 16: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cp:keywords/>
  <dc:language>en-US</dc:language>
  <cp:lastModifiedBy>Philip Smith</cp:lastModifiedBy>
  <cp:lastPrinted>2011-06-03T13:11:24Z</cp:lastPrinted>
  <dcterms:modified xsi:type="dcterms:W3CDTF">2011-07-02T03:05:25Z</dcterms:modified>
  <cp:revision>105</cp:revision>
  <dc:subject/>
  <dc:title>Workshop Agenda</dc:title>
</cp:coreProperties>
</file>