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667-4F4A-424E-957B-F3DE30BA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879-D2F0-49B4-8048-C2C1ABE3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C77-55DB-42DD-8DAA-738AD57F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165-3934-4CDA-9333-A68AF730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BCC4-2FCA-449A-96A4-86A2845F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366D-DF78-4C92-BF4C-060978A0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1039-09FB-455C-8972-F921C2D6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5E7-F9B9-42CA-AD5F-1A36807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D54C-5D4A-4FB9-A228-6EAB4792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40A-F1F4-4AB2-A696-61ADB42D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C643-2E5F-4CB9-8398-D38F69ED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256-0835-4CEA-BDA9-95592585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38DE-F27A-46CF-BFD8-5C7BDF0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69A4-1FF2-496C-B595-7CC92AB6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D791-193B-4568-A6F5-89293697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E714-A010-4258-8C2F-BF8C88C6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AD21-2A52-4A94-94D0-E430896A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2A4-9595-4710-990F-CEBC355D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3F5-310B-4159-871D-36433CE4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525-4DB7-44C6-93D7-1E937686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C8B-AF50-4B35-BF6E-7FE9D01E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AB3-EFB1-4105-9A21-04FCD06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BA0-0DB0-4E65-A6C8-3C6323E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AA3-72B8-4983-BC95-825C144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C3FE-2EF2-4A2D-958A-FE5FA744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8D4E-3846-4E13-9BDE-39BDF18DD95B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BGP Workshop (IPv4 &amp; IPv6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Smith &amp; Jonny Mar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NOG 8, Pohnpei, F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- 27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Introduction”, “Routing Bas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OSPF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&amp;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finish IPv4 iB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Addressing &amp; Routing Protocols”, “OSPF &amp; 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IPv6 OSPF and i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 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  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 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Fri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 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Scaling Techniques”, “BGP Best Pract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BGP Rout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(continu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atur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0-11-27T00:38:27Z</dcterms:modified>
  <cp:revision>71</cp:revision>
  <dc:subject>ISP/IXP Workshops Asia Pacific</dc:subject>
  <dc:title>ISP/IXP Workshop Agenda</dc:title>
</cp:coreProperties>
</file>