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E00-6AD3-4184-A063-28DB2FF3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A8-C700-4799-9359-7E282E7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694-A8E4-4CDF-B176-C19468BD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7D2-6E63-452D-BFC2-AD9D106B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166-A27B-4C09-9616-DA0951A7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4ECF-13D8-47E8-8AB6-D96A5F7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E8BF-835B-4932-AF75-1CD3B03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D485-B69B-4A71-8F6D-26FA2A6D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C046-48AA-4637-AA5B-42C2766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20B-C4F4-46B6-99A3-7889B48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4374-77B4-4B1C-97E0-C86B561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1F4-FF1A-4BF0-AEA5-0107594A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06D-3B20-4B01-A090-99ECAA6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41F6-31F5-456C-8235-5451BF0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DF29-317E-4CCB-85BD-67BF7165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4F80-5DA3-4085-9D58-2F46211B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3FEC-D413-4D13-9D4F-E0201469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699-8D80-4171-9FF4-BD3F22D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EDB-8774-421C-8D96-B00CE9D7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B9D-2606-48F5-B86F-4072A228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D37-7E1D-490E-8263-3140817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2F9-DE0A-484D-859B-08010C7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1A5-1935-42EC-A35E-4BC878D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555-FFCE-4E49-9BDF-771FB0C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657-0B62-419E-8732-964D2D89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DC23-3901-4B2B-9716-9FE84F2CEBF5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800"/>
            <a:ext cx="795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Sm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NOG 7, Pago Pago, American Sam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th June - 3rd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4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g Basic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Routing Protocol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v3”, “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: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: Lab Module 1 – IPv6 OSPF and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: 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: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&amp;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  Lab Module 6 – IPv6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GP Best Current Practic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 and Advanced 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07-02T02:42:58Z</dcterms:modified>
  <cp:revision>62</cp:revision>
  <dc:subject>ISP/IXP Workshops Asia Pacific</dc:subject>
  <dc:title>ISP/IXP Workshop Agenda</dc:title>
</cp:coreProperties>
</file>